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591-8FFA-40B6-B64B-312072B1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942-DDAB-440A-B9D3-B2441BC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48B-C87C-47EE-8F2A-23AC1E40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646-F151-4214-A5C4-1696892D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E33-A7E4-4091-BB1E-90153545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896-633A-4F79-BCE2-41FEC64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03B-DB87-4309-8609-1A8DDEA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2CB4-69EF-4EC6-9296-7ECAA14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CAC-8B54-438F-902C-9AEBEDF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D63-E35F-4FE2-9810-7B1883E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3E1F-8400-4596-A5BC-A7E83E3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5D-6454-4880-BC18-360C5DF2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1015-7C78-4F33-B9F6-7B70DFF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949C-D7E7-4AA5-9768-8CE0397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C7F-9E13-4635-A194-BA53C94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D13-F86B-43E6-9022-265BBB08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60C-8695-435A-BD76-77FDE952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CE0-E614-4387-895C-2E09125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980-0CC3-4CB0-8CD2-68347E6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8F0-66CF-473B-A201-D2F0B6D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684-9B97-482B-803A-0EB8FCD9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B27-D05D-4D87-AE58-8B846E7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0BA-3BA8-48D4-944E-699486D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EA8-7028-454F-8DA6-4359688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DBF3-DEC0-4829-99B2-B99F69DFD6D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3C8-7E9C-4AB6-B10E-01204DCFF4F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ology.iastate.edu/Courses/202L/New%20Site%20S05/27AngioReprod/flwrstrc/Daffodilflwr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giosperms – Flowering Pla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ers – contain ovaries, which become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rui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ids in pollin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tract pollinato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352680" y="3200400"/>
            <a:ext cx="25495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019920" y="3255840"/>
            <a:ext cx="3124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Herbaceous 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vs. 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Woody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362320"/>
            <a:ext cx="2895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on’t produce woo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dandelions    sunflow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279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2286000"/>
            <a:ext cx="3124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re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hrub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in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roses, iv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2578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Annu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one year life cycle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Bienni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two year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Perenni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many year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943600" y="1143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029200" y="2819520"/>
            <a:ext cx="2530440" cy="2530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805440" y="3600360"/>
            <a:ext cx="23385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co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81480" y="9907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noco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nocot or Dico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762120"/>
            <a:ext cx="25257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219320" y="4191120"/>
            <a:ext cx="2738160" cy="205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638680" y="762120"/>
            <a:ext cx="2419560" cy="302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576760" y="4114800"/>
            <a:ext cx="1865520" cy="205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35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ONO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ONO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6172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I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I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0:33:15Z</dcterms:created>
  <dc:creator>Daniel Krueger</dc:creator>
  <dc:description/>
  <dc:language>en-US</dc:language>
  <cp:lastModifiedBy>NPSD</cp:lastModifiedBy>
  <dcterms:modified xsi:type="dcterms:W3CDTF">2008-07-29T15:38:15Z</dcterms:modified>
  <cp:revision>4</cp:revision>
  <dc:subject/>
  <dc:title>Angiosperms</dc:title>
</cp:coreProperties>
</file>